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F91-B3A3-493C-A06D-8F211662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E30-4A18-415D-B562-95F6BA43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1B51-E251-4D64-9BA3-BCE013EF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A58-6A86-49A8-A35B-0D02BCD7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4C6-97FF-485A-87C6-D42DECC0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EBF-8347-484C-87A8-F5B722B1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58A-45DD-43B3-B83D-0F3C1FC0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5DD-9B7A-4335-85DB-8E939A19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DF0-51C4-4AB0-841B-A86D6CBB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BCE-D44C-4CF8-B43C-6E7AC0C6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D52-5F24-46CB-9284-124A54A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09E-3340-40D0-882A-9CDF339D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DCD54C-C5CC-4B8C-BEEA-BF910E53B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AVILON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 areálu spol. Veletrhy Brno, a. 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ODROBNÝ PRŮZKUM STÁVAJÍCÍ STŘECHY</a:t>
            </a:r>
            <a:r>
              <a:rPr b="1" lang="en-US" sz="10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19T07:58:01Z</dcterms:modified>
  <cp:revision>141</cp:revision>
  <dc:subject/>
  <dc:title>bez titulu</dc:title>
</cp:coreProperties>
</file>